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Click to move the slide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0BDB7-78FD-417A-8052-4ABCA964F96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F158B-F30A-46EB-88A3-2F0E8BE26D5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19A4E-3F9E-4FFD-9EA6-BE76DBA7656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43EBE-CE83-4CEF-81ED-6F75146F915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C8B76-6086-4589-AC90-B5457E85F66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B6577-E352-4E60-B90E-E4B101564CE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4C25B-DB37-474D-93EF-2E7847CD3E2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D9FDB-380E-4A01-B309-85B10A8B78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614700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47280" y="4997520"/>
            <a:ext cx="614700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2AA84-43F0-497F-AF60-FC87152654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97280" y="422100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47280" y="499752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97280" y="499752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AF8F2-C5BF-4458-BF8E-C2639A0850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19789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25560" y="4221000"/>
            <a:ext cx="19789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03840" y="4221000"/>
            <a:ext cx="19789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47280" y="4997520"/>
            <a:ext cx="19789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25560" y="4997520"/>
            <a:ext cx="19789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03840" y="4997520"/>
            <a:ext cx="19789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2AF3F-8AEB-4011-B773-5BB180DC3A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2F854-6F10-4AD0-801F-1702888B3D8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547280" y="4221000"/>
            <a:ext cx="61470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433D1-A8A2-4854-B4D1-12B0C64D213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6147000" cy="1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2EEC9-BE73-4744-A077-C75AEB8C700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2999520" cy="1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97280" y="4221000"/>
            <a:ext cx="2999520" cy="1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D4FF7-F37B-4E31-9814-7364E30DB72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7DBC9-3DC5-454F-A121-9369EE22EB9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476360" y="549360"/>
            <a:ext cx="6192720" cy="166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95AE0-6BCE-4509-95AC-63375D777B0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97280" y="4221000"/>
            <a:ext cx="2999520" cy="1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547280" y="499752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0241B-B7E2-4F59-817B-EB15AE9898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47280" y="4221000"/>
            <a:ext cx="61470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A0FF8-91A3-41CD-88A6-B2D5011895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2999520" cy="1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97280" y="422100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97280" y="499752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37D87-2A18-4E33-9FEA-3600938A67E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97280" y="422100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547280" y="4997520"/>
            <a:ext cx="614700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3E761-9A66-4B94-AFF7-D42A2C1F5DF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614700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547280" y="4997520"/>
            <a:ext cx="614700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6B540-CE9A-41E2-BD50-95B5974BFFC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97280" y="422100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547280" y="499752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97280" y="499752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88DD3-771A-4BB4-A181-9EBDEB963ED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19789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625560" y="4221000"/>
            <a:ext cx="19789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703840" y="4221000"/>
            <a:ext cx="19789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547280" y="4997520"/>
            <a:ext cx="19789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625560" y="4997520"/>
            <a:ext cx="19789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703840" y="4997520"/>
            <a:ext cx="19789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ABBDE-ED8D-4720-B690-BAE17C0B06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6147000" cy="1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63B8C-9F65-43E0-9FBD-B1C76EA460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2999520" cy="1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97280" y="4221000"/>
            <a:ext cx="2999520" cy="1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D4C82-7BF9-4E3D-B871-EA8A41DEA6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4587F-9FF6-4EB5-8A6C-DCFE33E001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76360" y="549360"/>
            <a:ext cx="6192720" cy="166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14E2D-FC9A-4042-8C2A-4B7C98455F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97280" y="4221000"/>
            <a:ext cx="2999520" cy="1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47280" y="499752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20575-82D2-45D4-AA60-B1EA733F58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2999520" cy="1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97280" y="422100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97280" y="499752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E1EA7-DA74-4822-A68B-3E7DAD0EED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7280" y="422100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47280" y="4997520"/>
            <a:ext cx="614700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410AC-A50F-45BD-B0E4-5D4EBCD437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8840" y="-93600"/>
            <a:ext cx="2772720" cy="6950160"/>
            <a:chOff x="-7884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ead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5600" y="3922560"/>
              <a:ext cx="889560" cy="719640"/>
              <a:chOff x="7560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2492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8440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792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5084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6840" y="2601000"/>
              <a:ext cx="2687040" cy="3117960"/>
              <a:chOff x="684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9456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1196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6576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9100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1540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60040" y="4055040"/>
                <a:ext cx="1833840" cy="1663920"/>
                <a:chOff x="86004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972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3604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992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75560" y="6174000"/>
              <a:ext cx="790560" cy="634680"/>
              <a:chOff x="47556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2132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932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9420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25080" y="1775880"/>
              <a:ext cx="785160" cy="693360"/>
              <a:chOff x="32508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4708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70128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2392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301760" y="0"/>
              <a:ext cx="546480" cy="581400"/>
              <a:chOff x="130176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30176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5196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9220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4616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9168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3020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b2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556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792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92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ab2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92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924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9168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908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8232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3636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792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9648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1"/>
          </p:nvPr>
        </p:nvSpPr>
        <p:spPr>
          <a:xfrm>
            <a:off x="8100720" y="6243480"/>
            <a:ext cx="86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CA678-A562-485A-9EDC-6768615A552C}" type="slidenum"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4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98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2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6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0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4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sldNum" idx="2"/>
          </p:nvPr>
        </p:nvSpPr>
        <p:spPr>
          <a:xfrm>
            <a:off x="7956720" y="6243480"/>
            <a:ext cx="86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0FA2B-0D7D-4AA5-B7FE-768CC3B7DFFF}" type="slidenum"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Click to edit the title text format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SzPct val="85000"/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2.png"/><Relationship Id="rId4" Type="http://schemas.openxmlformats.org/officeDocument/2006/relationships/image" Target="../media/image13.wmf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4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The Amazon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547280" y="3645000"/>
            <a:ext cx="6147000" cy="20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What do we need to know to understand why the Amazon is important?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80902-787F-42C1-8E64-6C92B0EB5D6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Where does the rain forest come into this?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42447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e only way carbon dioxide can be taken out of the atmosphere is by the plants – and trees are better at it than most because they are bigger and need to make more sugar to grow.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355640" y="4437000"/>
            <a:ext cx="45370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Without our forests, less of the carbon dioxide would taken out of the air, so more of it would be left to trap more heat from the sun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4716360" y="1125360"/>
            <a:ext cx="4248360" cy="30956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33B6C-63B9-419E-9581-E98916CBB85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806436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If there are more greenhouse gases in the air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900000" y="3429000"/>
            <a:ext cx="7632720" cy="22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Comic Sans MS"/>
              </a:rPr>
              <a:t>What kind of things can we expect to happen?</a:t>
            </a:r>
            <a:endParaRPr b="1" lang="en-US" sz="3600" spc="-1" strike="noStrike">
              <a:solidFill>
                <a:srgbClr val="006699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2af2"/>
                </a:solidFill>
                <a:latin typeface="Comic Sans MS"/>
              </a:rPr>
              <a:t>(it is not just a mater of everywhere getting hotter)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4A3E7-B946-475F-829D-0C4DF5F09AD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I think we may have covered most of these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01" name=""/>
          <p:cNvSpPr/>
          <p:nvPr/>
        </p:nvSpPr>
        <p:spPr>
          <a:xfrm>
            <a:off x="2340000" y="3068640"/>
            <a:ext cx="3672000" cy="72072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ome places will b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042920" y="4257000"/>
            <a:ext cx="2232000" cy="708120"/>
          </a:xfrm>
          <a:prstGeom prst="cloudCallout">
            <a:avLst>
              <a:gd name="adj1" fmla="val 36481"/>
              <a:gd name="adj2" fmla="val -106296"/>
            </a:avLst>
          </a:prstGeom>
          <a:solidFill>
            <a:srgbClr val="ccff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wetter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56360" y="1966320"/>
            <a:ext cx="2232000" cy="708120"/>
          </a:xfrm>
          <a:prstGeom prst="cloudCallout">
            <a:avLst>
              <a:gd name="adj1" fmla="val -72462"/>
              <a:gd name="adj2" fmla="val 102032"/>
            </a:avLst>
          </a:prstGeom>
          <a:solidFill>
            <a:srgbClr val="ebf7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colder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76720" y="4558680"/>
            <a:ext cx="2232000" cy="708120"/>
          </a:xfrm>
          <a:prstGeom prst="cloudCallout">
            <a:avLst>
              <a:gd name="adj1" fmla="val 4680"/>
              <a:gd name="adj2" fmla="val -161990"/>
            </a:avLst>
          </a:prstGeom>
          <a:solidFill>
            <a:srgbClr val="ffe497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rier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012000" y="4990680"/>
            <a:ext cx="2232000" cy="708120"/>
          </a:xfrm>
          <a:prstGeom prst="cloudCallout">
            <a:avLst>
              <a:gd name="adj1" fmla="val -68976"/>
              <a:gd name="adj2" fmla="val -234907"/>
            </a:avLst>
          </a:prstGeom>
          <a:solidFill>
            <a:srgbClr val="ff9b9b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Windier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332000" y="1677600"/>
            <a:ext cx="2232000" cy="708120"/>
          </a:xfrm>
          <a:prstGeom prst="cloudCallout">
            <a:avLst>
              <a:gd name="adj1" fmla="val 39740"/>
              <a:gd name="adj2" fmla="val 134092"/>
            </a:avLst>
          </a:prstGeom>
          <a:solidFill>
            <a:srgbClr val="ead5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Hotter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CC881-8017-40DF-987E-1A9A579930B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But are the effect on the rain forest of the trees being cut down?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547280" y="4221000"/>
            <a:ext cx="61470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F0573-7F1E-4EB9-B083-444966624C4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The soil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23640" y="4581360"/>
            <a:ext cx="424476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Before: moist, shaded, with lots of leaves to make compost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47960" y="4653000"/>
            <a:ext cx="42447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After: dry and desiccated as the sun dries up the soil and makes it cracked – the compost blows away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1042920" y="981000"/>
            <a:ext cx="6647040" cy="32511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D4AC1-329A-4A34-A943-04AEA77F13E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The temperature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23640" y="4581360"/>
            <a:ext cx="424476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Before: the temperature is kept down in the day because of the shade, but the trees act as a blanket making it only a bit cooler at night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47960" y="4653000"/>
            <a:ext cx="42447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After: Very hot in the day but cools quickly at night with no protective trees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1042920" y="981000"/>
            <a:ext cx="6647040" cy="32511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240A6-05D3-4CD3-91A3-E7BB393AF3B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Vegetation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23640" y="4581360"/>
            <a:ext cx="424476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Before: Lots of thing grew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7960" y="4653000"/>
            <a:ext cx="42447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After: With poor soil and the water evaporated, it would turn into a desert eventually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042920" y="981000"/>
            <a:ext cx="6647040" cy="32511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054DB-9016-4B65-A575-467D4CD80BC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Greenhouses gase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24000" y="4149360"/>
            <a:ext cx="403200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Before: As much as 10% may be trapped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00360" y="4149720"/>
            <a:ext cx="439236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After: None is taken in. But worse still even more can be released, by burning or rotting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1042920" y="981000"/>
            <a:ext cx="6647040" cy="32511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>
            <a:off x="5651640" y="907920"/>
            <a:ext cx="2023920" cy="16732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5"/>
          <a:stretch/>
        </p:blipFill>
        <p:spPr>
          <a:xfrm>
            <a:off x="6084720" y="2708280"/>
            <a:ext cx="2416320" cy="8985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262B4-DB72-4230-A4F7-E139CCC79AD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Flooding and drought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24000" y="4149360"/>
            <a:ext cx="396072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Before: Heavy rain hits the tree-tops and drips down through the branches, runs down the trunks and soaks into the soft earth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355640" y="4221000"/>
            <a:ext cx="45370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After: The heavy rain hits the baked earth hard, forming puddles and floods. 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The earth has been baked by the sun so it floods and then runs off into the river, taking any loose soil with it – this is called soil erosion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1619280" y="836640"/>
            <a:ext cx="5810400" cy="34099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41F00-E5C3-4A47-9CBF-9C6F50B5FB5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8920" y="103320"/>
            <a:ext cx="8713800" cy="11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And then there is the human and environmental problems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421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Amerindians are loosing their homelands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he plants and animals are lost forever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Rainforests contain medicines - an estimated one in four of all purchases from pharmacies in countries such as Britain contain an active ingredient derived from a tropical forest species. 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And only 1 % of the plants have yet been tested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47156-946A-4168-9A80-2FF633D836B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There some really good question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Comic Sans MS"/>
              </a:rPr>
              <a:t>Such as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If the trees in the rain forest were all cut down how would it effect the earth?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What would happen if the weather pattern in the Amazon changes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How would the world change if all of the Amazon was cut down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Comic Sans MS"/>
              </a:rPr>
              <a:t>But to help us think about these, what do we need to think about first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Comic Sans MS"/>
              </a:rPr>
              <a:t>There is a question that we would have to think about before we could go on to look as these others – any ideas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B9706-3BFF-48ED-ADDE-1DD368BB446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Homework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547280" y="4221000"/>
            <a:ext cx="61470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HotPotatoes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A0407-0188-457A-A9C7-8EF34A47FB1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I think we will have got there??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547280" y="3573000"/>
            <a:ext cx="6147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What is climate change and what has it to do with global warming?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E2AF9-A297-4C09-8AB2-3699112B120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Phrases we hear include …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14000" y="1052640"/>
            <a:ext cx="846468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e Greenhouse Effect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Global Warming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Climate Change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14360" y="3184200"/>
            <a:ext cx="847872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Before we look at these, there are 2 sources of the Greenhouse Effect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SzPct val="10204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e Natural Greenhouse Effect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SzPct val="10204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e Enhanced Greenhouse Effect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e first being useful, the second, well who knows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39CDE-DC57-4F9C-8EAA-5B8860E212A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The Natural Greenhouse Effect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Without it, Earth would have no living things and would be more like Venus or Mars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his is because the temperature would be on average 30</a:t>
            </a:r>
            <a:r>
              <a:rPr b="0" lang="en-US" sz="3200" spc="-1" strike="noStrike" baseline="30000">
                <a:solidFill>
                  <a:srgbClr val="006699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C colder than it is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his is how it works…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02BD6-3E9F-4168-AE82-E73DE50890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The Natural Greenhouse Effect at work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5510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e Earth is covered by a blanket of gas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e energy from the Sun reaches the Earth’s surface, where some it is converted to heat energy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Most of the heat( blue arrows) is re-radiated towards space, but some is trapped by the greenhouse gases in the atmosphere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is natural effect allows the Earth’s temperature to be kept at a level necessary to support life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5"/>
          <a:stretch/>
        </p:blipFill>
        <p:spPr>
          <a:xfrm>
            <a:off x="6227640" y="1268280"/>
            <a:ext cx="2714760" cy="500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9F1B7-8DCF-4F8A-9974-99130C31D0F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The Natural Greenhouse Effect at work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39416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e main Greenhouse Gas is Carbon Dioxide.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Until the last 200 years, the amount of CO</a:t>
            </a:r>
            <a:r>
              <a:rPr b="0" lang="en-US" sz="2800" spc="-1" strike="noStrike" baseline="-25000">
                <a:solidFill>
                  <a:srgbClr val="006699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 has remained stable.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is is why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4427640" y="1197000"/>
            <a:ext cx="4228920" cy="46767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900000" y="4797360"/>
            <a:ext cx="3241800" cy="1295640"/>
          </a:xfrm>
          <a:prstGeom prst="wedgeRoundRectCallout">
            <a:avLst>
              <a:gd name="adj1" fmla="val -45689"/>
              <a:gd name="adj2" fmla="val 69976"/>
              <a:gd name="adj3" fmla="val 16667"/>
            </a:avLst>
          </a:prstGeom>
          <a:solidFill>
            <a:srgbClr val="ebf7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Can you explain what is happening here?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51654-4C54-430E-8800-84E6880BF30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But then there is the Enhanced Greenhouse Effect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42433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Look how this is different!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Much more of the heat from the sun gets trapped in the atmosphere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So the Earth gets hotter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5251320" y="1376280"/>
            <a:ext cx="3038760" cy="489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50358-3A2B-48F8-9F74-530110EE936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Why is more heat getting trapped?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0560" y="4313160"/>
            <a:ext cx="8404200" cy="22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We are taking the stored carbon from the ground (oil and coal and gas) and burning it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is releases the CO</a:t>
            </a:r>
            <a:r>
              <a:rPr b="0" lang="en-US" sz="2800" spc="-1" strike="noStrike" baseline="-25000">
                <a:solidFill>
                  <a:srgbClr val="006699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 and so the main greenhouse gas is increasing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2195640" y="981000"/>
            <a:ext cx="4248000" cy="310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21BAD-5233-4BFF-A8FD-724768C5F73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1T14:32:48Z</dcterms:created>
  <dc:creator>Lindy</dc:creator>
  <dc:description/>
  <dc:language>en-US</dc:language>
  <cp:lastModifiedBy>Lindy</cp:lastModifiedBy>
  <dcterms:modified xsi:type="dcterms:W3CDTF">2009-05-04T13:53:54Z</dcterms:modified>
  <cp:revision>7</cp:revision>
  <dc:subject/>
  <dc:title>The Amaz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